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55F-B5BB-4956-8B0F-7C44A57D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C7C-5B95-43D1-8F66-E8777B49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511-F7B9-4F22-960D-471527B9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4AF-3445-4CF0-8C18-F4376F83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9D7A-3F42-4A3B-A997-1F124868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17F5-CE05-43C0-B2C2-57279DD0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F0C7-8835-491B-B1F0-D321C7B0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5FF8-00D9-4EE9-8F6C-F99F920B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92DE-5540-4CC5-AF55-D3DA99CF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AF5A-1D82-4B41-86CB-EF61A23B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F726-FAAF-4E6A-AEAE-0BE90E3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03E-A245-4E29-8EDA-1788D0F4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7863-293C-49E8-BAC4-4B25D2F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410B-7D21-4856-B143-4DE536D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F6BB-B291-4F75-9906-71E55506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5596-AF14-4B3B-9E9E-2C1DD07C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D4A2-01A9-4398-8256-3A532682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01C-3CD6-4D1F-801C-FBFE06A7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0AC-9F5C-4A56-89C4-F3D3819A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C4F-18E0-4024-960A-A7FCA773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CBF-C694-455C-8E92-9FC0B265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12C-00B3-419B-ADC2-2AB0F6FA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635-F78D-4EF7-95B1-6A5E1511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90A-65BD-48C3-8538-4F2EE740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E6A-DC11-44F1-8033-BCF4399AD74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6BA1-9415-4391-9647-47910CA4CCF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s.free-extras.com/pics/s/soccer_ball-993.png&amp;imgrefurl=http://www.free-extras.com/images/soccer_ball-993.htm&amp;usg=__FPpJKQJTZjqwolAWc_T3DtjrHv0=&amp;h=600&amp;w=600&amp;sz=110&amp;hl=en&amp;start=1&amp;zoom=1&amp;um=1&amp;itbs=1&amp;tbnid=yXfKuzi6dbtPzM:&amp;tbnh=135&amp;tbnw=135&amp;prev=/search%3Fq%3Dsoccer%2Bball%26um%3D1%26hl%3Den%26safe%3Doff%26rlz%3D1R2SKPB_enUS357%26biw%3D1003%26bih%3D543%26tbm%3Disch&amp;ei=9f-2Tcy5BoiosAOSn-GoAQ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images.free-extras.com/pics/s/soccer_ball-993.png&amp;imgrefurl=http://www.free-extras.com/images/soccer_ball-993.htm&amp;usg=__FPpJKQJTZjqwolAWc_T3DtjrHv0=&amp;h=600&amp;w=600&amp;sz=110&amp;hl=en&amp;start=1&amp;zoom=1&amp;um=1&amp;itbs=1&amp;tbnid=yXfKuzi6dbtPzM:&amp;tbnh=135&amp;tbnw=135&amp;prev=/search%3Fq%3Dsoccer%2Bball%26um%3D1%26hl%3Den%26safe%3Doff%26rlz%3D1R2SKPB_enUS357%26biw%3D1003%26bih%3D543%26tbm%3Disch&amp;ei=9f-2Tcy5BoiosAOSn-GoAQ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images.free-extras.com/pics/s/soccer_ball-993.png&amp;imgrefurl=http://www.free-extras.com/images/soccer_ball-993.htm&amp;usg=__FPpJKQJTZjqwolAWc_T3DtjrHv0=&amp;h=600&amp;w=600&amp;sz=110&amp;hl=en&amp;start=1&amp;zoom=1&amp;um=1&amp;itbs=1&amp;tbnid=yXfKuzi6dbtPzM:&amp;tbnh=135&amp;tbnw=135&amp;prev=/search%3Fq%3Dsoccer%2Bball%26um%3D1%26hl%3Den%26safe%3Doff%26rlz%3D1R2SKPB_enUS357%26biw%3D1003%26bih%3D543%26tbm%3Disch&amp;ei=9f-2Tcy5BoiosAOSn-GoAQ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up2010.info/trophy/trophy.jpg&amp;imgrefurl=http://www.cup2010.info/trophy/trophy.htm&amp;usg=__Nap44r6ZsJ01ABrcxtilHpTkP-U=&amp;h=599&amp;w=346&amp;sz=69&amp;hl=en&amp;start=2&amp;zoom=1&amp;um=1&amp;itbs=1&amp;tbnid=ErY7t-pcR9CFjM:&amp;tbnh=135&amp;tbnw=78&amp;prev=/search%3Fq%3Dworld%2Bcup%2Btrophy%26um%3D1%26hl%3Den%26safe%3Doff%26rlz%3D1R2SKPB_enUS357%26biw%3D1003%26bih%3D543%26tbm%3Disch&amp;ei=GAC3Tdu1MIyksQODz6mpAQ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World Cup Socc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Team Spai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828440" y="59432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Student A and 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ocated in Europ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s capital and largest city is Madr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untry’s total land area is 499,400 sq km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pain’s population is 46,505,963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prime Minister is Jose Luis Rodriguez Zapatero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8098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in’s Soccer Hist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occer organization in Spain was formed in 1863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1909, it was named Royal Spanish Football Federa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ain’s team joined FIFA in 1927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7242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47242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48006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pain’s Soccer Accomplishmen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010 World Cup Champ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008 UEFA European Football Champ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964 European Nation’s Cup Champ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anked Number 1 in the Worl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om 2006-2009 Spain was 35-0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4419720"/>
            <a:ext cx="1452600" cy="2438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5715000" y="44197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in’s Soccer Leag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Barcelon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eal Madri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Valenci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Villarreal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Athletic Bilbao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Atletico Madri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Sevill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Espanvol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Levant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Mallorc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eal Sporting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eal Socieda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Deportivo La Corun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Getaf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acing Santande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eal Zaragoz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Malag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Osasun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Hercules CF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Almeri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5334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in’s National Tea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6581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7:08:05Z</dcterms:created>
  <dc:creator>Randy</dc:creator>
  <dc:description/>
  <dc:language>en-US</dc:language>
  <cp:lastModifiedBy>Randy</cp:lastModifiedBy>
  <dcterms:modified xsi:type="dcterms:W3CDTF">2011-04-26T17:30:28Z</dcterms:modified>
  <cp:revision>2</cp:revision>
  <dc:subject/>
  <dc:title>World Cup Soccer Team Germany</dc:title>
</cp:coreProperties>
</file>